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929-DF87-4E0A-9AF2-894F865B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6BA-FF4F-4CAA-A1EF-866E8B96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FE0D-100B-4EE1-BEBA-329FD3A2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CA3-9E8E-4574-927E-3DA1EFB7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63854-C8C8-451E-93E2-61C6BA756A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0FB78-C3F1-4E92-94DF-EB3AD77F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C8AA9-C3D2-401B-A999-8E557B73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F8AFD-8BD0-42BB-9674-8D88CE7E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3094A-62B2-4FB7-B7D2-63592B23F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F1FC1-19CD-4C3D-8E54-26E20E7D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5228F-D7BA-4E76-831E-812F5FAB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9E5-3524-4A62-86B8-B30741B9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C3C4B-F2E4-47DC-859A-D7E8EC7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2FA98-6E88-4603-AC92-32B8A7D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ACE24-156D-42AA-B8DB-0EEAFE35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2C047-7F74-47F4-BE2A-8F8187F4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E5028-98A3-4962-86B1-45BCA2E9E4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7C7-5A73-4077-AE00-5EF0C43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819-FCAA-4A1C-B475-2FFD885E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6DF-6A74-4B44-992A-669D89A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B6A-171D-4AF1-97FE-409D8E26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CF6-F8B9-40BD-B48D-A3280D83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F84-BC14-4113-AC7F-69DBCFED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930-D7EA-4F79-A63F-4E6672D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644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C84F2C4-2910-44F0-B9D7-9E512F8162C4}" type="slidenum">
              <a:rPr b="0" lang="de-DE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2760"/>
            <a:ext cx="906948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364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56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5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3280" y="7007040"/>
            <a:ext cx="23493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24.05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43400" y="7007400"/>
            <a:ext cx="31906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222680" y="7007040"/>
            <a:ext cx="2349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7E672-7FE0-4D00-AB7D-0C0B17589EFD}" type="slidenum">
              <a:rPr b="0" lang="de-DE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02920" y="360360"/>
            <a:ext cx="9070920" cy="72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1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entrální plán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ětiletky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upné zničení soukromého sektoru, znárodňován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28728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ování těžkého průmysl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Kolektivizac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dé přišli o majetek, ztráta "odborníků" + perzkuce odpůrc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Font typeface="Arial"/>
              <a:buChar char="•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ování pozemků, zakládání JZD a státních stat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Snaha uvolnit pracovní sílu pro těžký průmys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&gt; Dohled nad venkovem --&gt; centrálně řízené zemědělstv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88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ěnová refor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ehodnocení úsp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kles životní úrov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63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6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chod na centrální plánování a oddlužení státních podnik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skutečné důvody reform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503280" y="1239840"/>
            <a:ext cx="9070920" cy="23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r. 1953 krachovala první pětiletka a bylo třeba situaci řeš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hlavním cílem byl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přechod k sovětskému modelu centrálního plánování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sovětský model byl totiž neslučitelný s volnými peněžními prostředky v rukou občanů → byly odstraně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režim také zároveň získal </a:t>
            </a: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přesný přehled o majetku obča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6680" y="3700440"/>
            <a:ext cx="428148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40360" y="3700440"/>
            <a:ext cx="4640040" cy="3492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515880" y="6796080"/>
            <a:ext cx="182556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racovník válcov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19560" y="6796080"/>
            <a:ext cx="2857680" cy="303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A. Zápotocký na návštěvě NHK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pokles životní úrovně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03280" y="1239840"/>
            <a:ext cx="907092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životní úroveň všech poklesla 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–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reálné mzdy klesly zhruba </a:t>
            </a:r>
            <a:br>
              <a:rPr sz="24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o 12%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; provedením reformy byla kupní síla peněz, které lidé vydělali od konce války do roku 1953, téměř vynul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Měnová reforma postihla spekulanty a hrabivce, ale také příslušníky dělnické třídy, kteří si ze mzdy šetřili na nábytek 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či jiné životní potřeby.“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kronika obce Prostřední Beč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920" y="4176720"/>
            <a:ext cx="5157720" cy="29624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881600" y="4176720"/>
            <a:ext cx="4976640" cy="29890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452760" y="7034040"/>
            <a:ext cx="349272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nové poreformní bankovky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50,- a 25,- Kč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96920" y="0"/>
            <a:ext cx="65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erzekuce církví a náboženských organiz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" y="1111320"/>
            <a:ext cx="9825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zvláště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katolická církev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a trnem v oku reži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StB pracovala na potlačení jejího vlivu s cílem úplné likvid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komunisté začali navštěvovat kostely, kde sledovali obsah kázání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 referovali o jeho obsa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yvolávali incidenty při bohoslužbách, které poskytovaly záminku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k pronásledování kněží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(Číhošťský zázr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StB zinscenoval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akci "K"- likvidaci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15.března 1950 začalo zatýkání spojené s důkladnými prohlídkami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ze 13. na 14. dubna 1950 bylo soustředěno 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internováno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v českých zemích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více než 900 řeholníků a obsazeno 76 klášterních objektů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, na Slovensku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881 řeholníků a 62 klášt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7120" y="5207040"/>
            <a:ext cx="3608280" cy="2152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02440" y="5149800"/>
            <a:ext cx="2976480" cy="2216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245120" y="4732200"/>
            <a:ext cx="258120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595840" y="5238720"/>
            <a:ext cx="4200480" cy="232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1640" y="135000"/>
            <a:ext cx="41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hospodářská poli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6840" y="793800"/>
            <a:ext cx="9983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lánované hospodářství a znárodňová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majetku byly zavedeny již Košickým vládním progra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únor 1948 však znamenal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totální a nedobrovolnou změnu vlastnických vztah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úplná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likvidace živnost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(v roce 1947 existovalo 409 815 živností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a v roce 1953 už jen asi 80 000 živností a jejich počet dále kles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byl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likvidováno na 250 000 samostatných zemědělců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a nahradilo je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8 000 Jednotných zemědělských družst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15880" y="3541680"/>
            <a:ext cx="4483080" cy="359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627960" y="2994120"/>
            <a:ext cx="3095640" cy="213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18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Arial Black"/>
              <a:buAutoNum type="romanU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pětiletka – přestavb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 Black"/>
                <a:ea typeface="ＭＳ Ｐゴシック"/>
              </a:rPr>
              <a:t>ekonomiky po sovětském vz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600" y="1430280"/>
            <a:ext cx="542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po prvním dvouletém plánu zaveden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první pětiletý plán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na léta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1949-19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v říjnu 1947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Ústřední plánovací komise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zahájila přípravy první pětile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zprůmyslně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bylo považováno za klíč k dosažení vyspělosti zem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- důraz na těžký průmysl (těžební, ocelářsk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-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reálné chování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 ekonomických subjektů však bylo </a:t>
            </a:r>
            <a:r>
              <a:rPr b="0" lang="cs-CZ" sz="2000" spc="-1" strike="noStrike">
                <a:solidFill>
                  <a:srgbClr val="ff0000"/>
                </a:solidFill>
                <a:latin typeface="Arial Black"/>
                <a:ea typeface="ＭＳ Ｐゴシック"/>
              </a:rPr>
              <a:t>zcela jiné</a:t>
            </a:r>
            <a:r>
              <a:rPr b="0" lang="cs-CZ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, než předpokládal plán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595840" y="1160640"/>
            <a:ext cx="4295880" cy="6190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9480" y="5151600"/>
            <a:ext cx="3414600" cy="24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35280" y="1501920"/>
            <a:ext cx="39243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5880" y="208080"/>
            <a:ext cx="907272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5880" y="1398600"/>
            <a:ext cx="47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nstantia"/>
              </a:rPr>
              <a:t>Scelování pozem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5880" y="2033640"/>
            <a:ext cx="9128160" cy="5311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15880" y="2033640"/>
            <a:ext cx="9128160" cy="53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5880" y="20808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4200" y="2033640"/>
            <a:ext cx="8570880" cy="543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15880" y="20808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olektivizace v ČSR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3280" y="2131920"/>
            <a:ext cx="907236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ojem převzatý z Rusk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zv. „vesnický boháč“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dlák s půdou nad 20 h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sivní propagandistická</a:t>
            </a:r>
            <a:br>
              <a:rPr sz="3500"/>
            </a:br>
            <a:r>
              <a:rPr b="0" lang="cs-CZ" sz="3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mpaň proti ni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5880" y="1398600"/>
            <a:ext cx="47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onstantia"/>
              </a:rPr>
              <a:t>Kul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34000" y="1335240"/>
            <a:ext cx="4446720" cy="62244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8440" y="2111400"/>
            <a:ext cx="10014120" cy="468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59280" y="954000"/>
            <a:ext cx="3959280" cy="5526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0720" y="1619280"/>
            <a:ext cx="4859280" cy="2519280"/>
          </a:xfrm>
          <a:prstGeom prst="wedgeRoundRectCallout">
            <a:avLst>
              <a:gd name="adj1" fmla="val 85708"/>
              <a:gd name="adj2" fmla="val 36884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Naše měna 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je pevná a měnová reforma nebu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všechno jsou fám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Corbel"/>
              </a:rPr>
              <a:t>které šíří třídní nepřátelé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Corbel"/>
              </a:rPr>
              <a:t>29. května 19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5040360"/>
            <a:ext cx="431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orbel"/>
              </a:rPr>
              <a:t>v sobotu 30.</a:t>
            </a:r>
            <a:r>
              <a:rPr b="0" lang="de-DE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Corbel"/>
              </a:rPr>
              <a:t>května</a:t>
            </a:r>
            <a:r>
              <a:rPr b="0" lang="de-DE" sz="2400" spc="-1" strike="noStrike">
                <a:solidFill>
                  <a:srgbClr val="000000"/>
                </a:solidFill>
                <a:latin typeface="Corbel"/>
              </a:rPr>
              <a:t>  vyhlášeno provedení měnové refo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920" y="208080"/>
            <a:ext cx="7937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Palatino Linotype"/>
              </a:rPr>
              <a:t>provedené reformní krok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5357880" y="1398600"/>
            <a:ext cx="4286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ffff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šechny mzdové i sociální příjmy byly snížen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 poměru 5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hotovosti občanů byly vyměněny do 300 Kčs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v poměru 5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 (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zbytek </a:t>
            </a:r>
            <a:br>
              <a:rPr sz="2400"/>
            </a:b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v poměru 50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,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životní pojistky v poměru 50:1</a:t>
            </a: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buClr>
                <a:srgbClr val="ff3399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byly anulovány vázané vklady, veškeré státní dluhopisy a všechny další tuzemské cenné papíry (akcie, listy, směnky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7120" y="4414680"/>
            <a:ext cx="4707000" cy="27864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7920" y="1319040"/>
            <a:ext cx="4759200" cy="21434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198360" y="3462480"/>
            <a:ext cx="2619360" cy="303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ředreformní padesátikor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5040" y="4097160"/>
            <a:ext cx="2222280" cy="30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Calibri"/>
              </a:rPr>
              <a:t>poreformní desetikoru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2565360" y="3716280"/>
            <a:ext cx="634680" cy="444240"/>
          </a:xfrm>
          <a:prstGeom prst="rightArrow">
            <a:avLst>
              <a:gd name="adj1" fmla="val 50000"/>
              <a:gd name="adj2" fmla="val 35717"/>
            </a:avLst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5-24T18:00:55Z</dcterms:modified>
  <cp:revision>32</cp:revision>
  <dc:subject/>
  <dc:title/>
</cp:coreProperties>
</file>